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08B6-C00E-481A-9D16-F7EBA87DDE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EA4-3DA5-46E3-8D16-76AD2BDE3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18CA-D878-4665-A6D3-A8B19CD02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BE80-7306-4345-9388-6F7A8BDE2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74C3-E690-44B9-8E88-47C198F89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B527-81C7-4403-89D4-F32743B91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6F62-A860-4368-9993-58608BFC4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2EFB-85D3-40FB-924D-52D319BDD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F27-8F60-44BD-99D4-A44CEA3CA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59E-CFA8-4A20-A7E7-B9903F232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E726-42AB-4667-9DBE-419398973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D0FE-EA54-4B73-93E0-CC123E18A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BD02-735E-4E94-87E3-71ECCA5A0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091-4625-4426-A38E-72E043C45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C8D7-84EB-4FD0-996D-22A6F7974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6BA6-4ED4-469F-AB32-AA4CE7BC8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094-0DC4-4F95-95F3-0ED0247F2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4FFF-127D-4416-91A9-609FEC2012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123-97EE-4859-BA77-3D7538D2A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BA0-F431-4FC6-A0EC-922BC56B4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A9B-845B-458A-A60B-AEDC3C688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2BFA-6E0B-44FE-BE7D-A9DB71410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7D5F-87B5-49CF-8BB9-4501414EC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10FC-7559-4D28-9906-FF6201441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644B-320C-4414-8D56-3C59A7A6A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218-294B-4F54-A194-1ACF0280F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409788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752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868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24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868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24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274320"/>
            <a:ext cx="712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1752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1280" y="409788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1752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68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2480" y="160020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12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68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2480" y="4097880"/>
            <a:ext cx="26431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360" y="274320"/>
            <a:ext cx="712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7520" y="409788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7520" y="1600200"/>
            <a:ext cx="4005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4097880"/>
            <a:ext cx="820872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468360" y="333360"/>
            <a:ext cx="0" cy="633564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 flipH="1">
            <a:off x="250560" y="6308640"/>
            <a:ext cx="799308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 flipV="1">
            <a:off x="250920" y="6380280"/>
            <a:ext cx="85690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H="1" flipV="1">
            <a:off x="395280" y="1052280"/>
            <a:ext cx="1440" cy="561636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 flipH="1">
            <a:off x="612360" y="1484280"/>
            <a:ext cx="7991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gerb"/>
          <p:cNvPicPr/>
          <p:nvPr/>
        </p:nvPicPr>
        <p:blipFill>
          <a:blip r:embed="rId2"/>
          <a:stretch/>
        </p:blipFill>
        <p:spPr>
          <a:xfrm>
            <a:off x="684360" y="598320"/>
            <a:ext cx="64764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4"/>
          <p:cNvSpPr/>
          <p:nvPr/>
        </p:nvSpPr>
        <p:spPr>
          <a:xfrm>
            <a:off x="468360" y="333360"/>
            <a:ext cx="0" cy="6335640"/>
          </a:xfrm>
          <a:prstGeom prst="line">
            <a:avLst/>
          </a:prstGeom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 flipH="1">
            <a:off x="250560" y="6308640"/>
            <a:ext cx="7993080" cy="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V="1">
            <a:off x="250920" y="6380280"/>
            <a:ext cx="8569080" cy="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395280" y="1052280"/>
            <a:ext cx="1440" cy="561636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gerb"/>
          <p:cNvPicPr/>
          <p:nvPr/>
        </p:nvPicPr>
        <p:blipFill>
          <a:blip r:embed="rId2"/>
          <a:stretch/>
        </p:blipFill>
        <p:spPr>
          <a:xfrm>
            <a:off x="684360" y="1246320"/>
            <a:ext cx="927000" cy="9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764640"/>
            <a:ext cx="63327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Федеральная служба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о ветеринарному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и фитосанитарному надзору</a:t>
            </a:r>
            <a:br>
              <a:rPr sz="2800"/>
            </a:b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755640" y="2924280"/>
            <a:ext cx="763272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411280" y="3068640"/>
            <a:ext cx="446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РОССЕЛЬХОЗНАД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gerb"/>
          <p:cNvPicPr/>
          <p:nvPr/>
        </p:nvPicPr>
        <p:blipFill>
          <a:blip r:embed="rId1"/>
          <a:stretch/>
        </p:blipFill>
        <p:spPr>
          <a:xfrm>
            <a:off x="684360" y="981000"/>
            <a:ext cx="141120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411280" y="1600200"/>
          <a:ext cx="4472280" cy="4565520"/>
        </p:xfrm>
        <a:graphic>
          <a:graphicData uri="http://schemas.openxmlformats.org/drawingml/2006/table">
            <a:tbl>
              <a:tblPr/>
              <a:tblGrid>
                <a:gridCol w="481320"/>
                <a:gridCol w="2203200"/>
                <a:gridCol w="1787760"/>
              </a:tblGrid>
              <a:tr h="480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угв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ля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и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4 / 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324"/>
          <p:cNvSpPr/>
          <p:nvPr/>
        </p:nvSpPr>
        <p:spPr>
          <a:xfrm>
            <a:off x="1476360" y="341280"/>
            <a:ext cx="74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Количество предприятий / судов по производству и хранению продукции животного происхождени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414000"/>
            <a:ext cx="71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Times New Roman"/>
              </a:rPr>
              <a:t>Количество оформленных в 2008 году  разрешений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на ввоз, вывоз, транзит подконтрольных  госветнадзору грузов в/через Российскую Федерацию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одатайств  на ввоз в Российскую Федерацию, вывоз из Российской Федерации, а также транзит по ее территории подконтрольных госветнадзору грузов от главных государственных ветеринарных инспекторов субъектов Российской Федерации и стран участников СНГ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ано 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ешений на ввоз, вывоз и транзит подконтрольной госветнадзору продукции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бразец предварительного уведомления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т ветеринарной службы Австралии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484280"/>
          <a:ext cx="8496360" cy="3613320"/>
        </p:xfrm>
        <a:graphic>
          <a:graphicData uri="http://schemas.openxmlformats.org/drawingml/2006/table">
            <a:tbl>
              <a:tblPr/>
              <a:tblGrid>
                <a:gridCol w="512640"/>
                <a:gridCol w="1050840"/>
                <a:gridCol w="1052640"/>
                <a:gridCol w="1052640"/>
                <a:gridCol w="979560"/>
                <a:gridCol w="669600"/>
                <a:gridCol w="474840"/>
                <a:gridCol w="473040"/>
                <a:gridCol w="1047600"/>
                <a:gridCol w="719280"/>
                <a:gridCol w="463680"/>
              </a:tblGrid>
              <a:tr h="15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C N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rt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sign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signee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signee 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ainer N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al N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ne N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duct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et Weight (K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aughter Estab N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18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RP COMMODITIES PTY L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OO "T&amp;K-TORGOVLIA &amp; KOMMERCIA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NAJA UL. 59, STR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SC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RU5768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80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ZEN BONELESS BEEF TRIMM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19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MT PROCESSING PTY L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O ALLIANCE LT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 GAPSALSKAYA STREET, OFFICE 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 PETERSBURG 1980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NU4903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OZEN BONELESS BEEF TRIMM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3409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Образец предварительного уведомления</a:t>
            </a:r>
            <a:br>
              <a:rPr sz="2700"/>
            </a:br>
            <a:r>
              <a:rPr b="1" lang="en-US" sz="2700" spc="-1" strike="noStrike">
                <a:solidFill>
                  <a:srgbClr val="333399"/>
                </a:solidFill>
                <a:latin typeface="Times New Roman"/>
              </a:rPr>
              <a:t>от ветеринарной службы Бразилии</a:t>
            </a:r>
            <a:endParaRPr b="1" lang="en-US" sz="27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826920" y="1582560"/>
          <a:ext cx="7490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82560"/>
                    <a:ext cx="7490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1400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раница Российской  Федерации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щая протяженность границ Российской Федераци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0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км</a:t>
            </a:r>
            <a:endParaRPr b="0" lang="en-US" sz="26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орской границы 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0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км </a:t>
            </a:r>
            <a:endParaRPr b="0" lang="en-US" sz="2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ухопутной границы 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км </a:t>
            </a:r>
            <a:endParaRPr b="0" lang="en-US" sz="2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 Российской Федерации действует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2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пункта пропуска через государственную границу</a:t>
            </a:r>
            <a:endParaRPr b="0" lang="en-US" sz="26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граничный ветеринарный контроль осуществляется в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1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пунктах пропуска</a:t>
            </a:r>
            <a:endParaRPr b="0" lang="en-US" sz="2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бщее количество пунктов пропуска </a:t>
            </a:r>
            <a:br>
              <a:rPr sz="2800"/>
            </a:b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через Государственную границу Российской Федерации</a:t>
            </a:r>
            <a:endParaRPr b="1" lang="en-US" sz="21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1755720"/>
          <a:ext cx="7113600" cy="3905280"/>
        </p:xfrm>
        <a:graphic>
          <a:graphicData uri="http://schemas.openxmlformats.org/drawingml/2006/table">
            <a:tbl>
              <a:tblPr/>
              <a:tblGrid>
                <a:gridCol w="4952880"/>
                <a:gridCol w="2160720"/>
              </a:tblGrid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иацио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шанные (в период навигац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ные и оз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шех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340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Количество пунктов пропуска, в которых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осуществляется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пограничный ветеринарный контроль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76320" y="1817640"/>
          <a:ext cx="7772400" cy="3195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ск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иацион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340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Схема осуществления Россельхознадзором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контроля за ввозом подконтрольной продукции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2268360" y="2459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788000" y="2459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7451640" y="2459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4788000" y="33242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2268360" y="39704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4788000" y="4005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2268360" y="3322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7451640" y="3322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7236000" y="4005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2268360" y="4835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3564000" y="5699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_s1031"/>
          <p:cNvSpPr/>
          <p:nvPr/>
        </p:nvSpPr>
        <p:spPr>
          <a:xfrm>
            <a:off x="1619280" y="1989000"/>
            <a:ext cx="6265800" cy="47016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КОНТРОЛЬ в пункте пропус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_s1031"/>
          <p:cNvSpPr/>
          <p:nvPr/>
        </p:nvSpPr>
        <p:spPr>
          <a:xfrm>
            <a:off x="755640" y="2746440"/>
            <a:ext cx="2592360" cy="57636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Документальный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_s1031"/>
          <p:cNvSpPr/>
          <p:nvPr/>
        </p:nvSpPr>
        <p:spPr>
          <a:xfrm>
            <a:off x="3706920" y="2746440"/>
            <a:ext cx="2160360" cy="57636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Физический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_s1031"/>
          <p:cNvSpPr/>
          <p:nvPr/>
        </p:nvSpPr>
        <p:spPr>
          <a:xfrm>
            <a:off x="6227640" y="2746440"/>
            <a:ext cx="2519640" cy="57780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Лабораторный контрол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отбор проб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_s1031"/>
          <p:cNvSpPr/>
          <p:nvPr/>
        </p:nvSpPr>
        <p:spPr>
          <a:xfrm>
            <a:off x="1692360" y="3610080"/>
            <a:ext cx="6265800" cy="46980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Принятие РЕ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_s1031"/>
          <p:cNvSpPr/>
          <p:nvPr/>
        </p:nvSpPr>
        <p:spPr>
          <a:xfrm>
            <a:off x="1332000" y="4546440"/>
            <a:ext cx="1800000" cy="43200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воз РАЗРЕШЕ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_s1031"/>
          <p:cNvSpPr/>
          <p:nvPr/>
        </p:nvSpPr>
        <p:spPr>
          <a:xfrm>
            <a:off x="3613320" y="4365720"/>
            <a:ext cx="2376360" cy="43344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a50021"/>
                </a:solidFill>
                <a:latin typeface="Times New Roman"/>
              </a:rPr>
              <a:t>Приостановка дви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_s1031"/>
          <p:cNvSpPr/>
          <p:nvPr/>
        </p:nvSpPr>
        <p:spPr>
          <a:xfrm>
            <a:off x="6443640" y="4365720"/>
            <a:ext cx="1800360" cy="43164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ВОЗВРАТ ГРУ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_s1031"/>
          <p:cNvSpPr/>
          <p:nvPr/>
        </p:nvSpPr>
        <p:spPr>
          <a:xfrm>
            <a:off x="1332000" y="5483160"/>
            <a:ext cx="2376360" cy="43200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ВХ/Таможенный скл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_s1031"/>
          <p:cNvSpPr/>
          <p:nvPr/>
        </p:nvSpPr>
        <p:spPr>
          <a:xfrm>
            <a:off x="4284720" y="5157720"/>
            <a:ext cx="4608360" cy="792360"/>
          </a:xfrm>
          <a:prstGeom prst="roundRect">
            <a:avLst>
              <a:gd name="adj" fmla="val 6542"/>
            </a:avLst>
          </a:prstGeom>
          <a:gradFill rotWithShape="0">
            <a:gsLst>
              <a:gs pos="0">
                <a:srgbClr val="a7a55b"/>
              </a:gs>
              <a:gs pos="50000">
                <a:srgbClr val="c3c490"/>
              </a:gs>
              <a:gs pos="100000">
                <a:srgbClr val="a7a55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Направление продукции на предприятие из Списк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утвержденных для хранения и переработ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опубликованном на сайте Россельхознадз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хема осуществления </a:t>
            </a:r>
            <a:br>
              <a:rPr sz="24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документального контрол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7" name="Organization Chart 14"/>
          <p:cNvGrpSpPr/>
          <p:nvPr/>
        </p:nvGrpSpPr>
        <p:grpSpPr>
          <a:xfrm>
            <a:off x="611280" y="1679400"/>
            <a:ext cx="7635960" cy="4300560"/>
            <a:chOff x="611280" y="1679400"/>
            <a:chExt cx="7635960" cy="4300560"/>
          </a:xfrm>
        </p:grpSpPr>
        <p:sp>
          <p:nvSpPr>
            <p:cNvPr id="198" name="_s5124"/>
            <p:cNvSpPr/>
            <p:nvPr/>
          </p:nvSpPr>
          <p:spPr>
            <a:xfrm>
              <a:off x="611280" y="1679400"/>
              <a:ext cx="3741480" cy="60012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Документальный 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1"/>
            <p:cNvSpPr/>
            <p:nvPr/>
          </p:nvSpPr>
          <p:spPr>
            <a:xfrm>
              <a:off x="3995640" y="3284640"/>
              <a:ext cx="4176720" cy="50328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. Проверка выполн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ветеринарно-санитарных требований РФ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2"/>
            <p:cNvSpPr/>
            <p:nvPr/>
          </p:nvSpPr>
          <p:spPr>
            <a:xfrm>
              <a:off x="3995640" y="3973680"/>
              <a:ext cx="4251600" cy="5349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3. Исключение  возможности фальсифик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1"/>
            <p:cNvSpPr/>
            <p:nvPr/>
          </p:nvSpPr>
          <p:spPr>
            <a:xfrm>
              <a:off x="3992400" y="2535120"/>
              <a:ext cx="4108680" cy="5335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. Проверка соответствия ветеринар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сертификатов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_s1032"/>
            <p:cNvCxnSpPr>
              <a:stCxn id="199" idx="1"/>
              <a:endCxn id="198" idx="2"/>
            </p:cNvCxnSpPr>
            <p:nvPr/>
          </p:nvCxnSpPr>
          <p:spPr>
            <a:xfrm rot="10800000">
              <a:off x="2482200" y="2278800"/>
              <a:ext cx="1513440" cy="125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32"/>
            <p:cNvCxnSpPr/>
            <p:nvPr/>
          </p:nvCxnSpPr>
          <p:spPr>
            <a:xfrm rot="10800000">
              <a:off x="2480400" y="2262960"/>
              <a:ext cx="1510560" cy="354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1032"/>
            <p:cNvCxnSpPr>
              <a:stCxn id="201" idx="1"/>
              <a:endCxn id="198" idx="2"/>
            </p:cNvCxnSpPr>
            <p:nvPr/>
          </p:nvCxnSpPr>
          <p:spPr>
            <a:xfrm rot="10800000">
              <a:off x="2482200" y="2278800"/>
              <a:ext cx="1510200" cy="52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1032"/>
            <p:cNvSpPr/>
            <p:nvPr/>
          </p:nvSpPr>
          <p:spPr>
            <a:xfrm>
              <a:off x="3995640" y="4724280"/>
              <a:ext cx="4251600" cy="5349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. Проверка предварительной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госветслужбы страны-экспортер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2"/>
            <p:cNvSpPr/>
            <p:nvPr/>
          </p:nvSpPr>
          <p:spPr>
            <a:xfrm>
              <a:off x="3995640" y="5445000"/>
              <a:ext cx="4251600" cy="5349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. Проверка разрешения на ввоз в РФ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_s1032"/>
            <p:cNvCxnSpPr>
              <a:stCxn id="200" idx="1"/>
              <a:endCxn id="198" idx="2"/>
            </p:cNvCxnSpPr>
            <p:nvPr/>
          </p:nvCxnSpPr>
          <p:spPr>
            <a:xfrm rot="10800000">
              <a:off x="2482200" y="2278800"/>
              <a:ext cx="1513440" cy="196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1032"/>
            <p:cNvCxnSpPr>
              <a:stCxn id="205" idx="1"/>
              <a:endCxn id="198" idx="2"/>
            </p:cNvCxnSpPr>
            <p:nvPr/>
          </p:nvCxnSpPr>
          <p:spPr>
            <a:xfrm rot="10800000">
              <a:off x="2482200" y="2278800"/>
              <a:ext cx="1513440" cy="271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хема осуществления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физического контрол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Organization Chart 10"/>
          <p:cNvGrpSpPr/>
          <p:nvPr/>
        </p:nvGrpSpPr>
        <p:grpSpPr>
          <a:xfrm>
            <a:off x="755640" y="1895400"/>
            <a:ext cx="7635960" cy="3981600"/>
            <a:chOff x="755640" y="1895400"/>
            <a:chExt cx="7635960" cy="3981600"/>
          </a:xfrm>
        </p:grpSpPr>
        <p:sp>
          <p:nvSpPr>
            <p:cNvPr id="211" name="_s6148"/>
            <p:cNvSpPr/>
            <p:nvPr/>
          </p:nvSpPr>
          <p:spPr>
            <a:xfrm>
              <a:off x="755640" y="1895400"/>
              <a:ext cx="3741480" cy="60012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Физический 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1"/>
            <p:cNvSpPr/>
            <p:nvPr/>
          </p:nvSpPr>
          <p:spPr>
            <a:xfrm>
              <a:off x="4140000" y="4076640"/>
              <a:ext cx="4176720" cy="720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2. Осмотр транспортных средст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2"/>
            <p:cNvSpPr/>
            <p:nvPr/>
          </p:nvSpPr>
          <p:spPr>
            <a:xfrm>
              <a:off x="4140000" y="5085000"/>
              <a:ext cx="4251600" cy="79200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3. Досмотр продукции на соответств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предъявленным документа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4136760" y="3068640"/>
              <a:ext cx="4108680" cy="720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. Осмотр животных с целью установл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клинического состоя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_s1032"/>
            <p:cNvCxnSpPr>
              <a:stCxn id="212" idx="1"/>
              <a:endCxn id="211" idx="2"/>
            </p:cNvCxnSpPr>
            <p:nvPr/>
          </p:nvCxnSpPr>
          <p:spPr>
            <a:xfrm rot="10800000">
              <a:off x="2626560" y="2494800"/>
              <a:ext cx="1513440" cy="194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32"/>
            <p:cNvCxnSpPr>
              <a:stCxn id="214" idx="1"/>
              <a:endCxn id="211" idx="2"/>
            </p:cNvCxnSpPr>
            <p:nvPr/>
          </p:nvCxnSpPr>
          <p:spPr>
            <a:xfrm rot="10800000">
              <a:off x="2626560" y="2494800"/>
              <a:ext cx="1510200" cy="93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32"/>
            <p:cNvCxnSpPr>
              <a:stCxn id="213" idx="1"/>
              <a:endCxn id="211" idx="2"/>
            </p:cNvCxnSpPr>
            <p:nvPr/>
          </p:nvCxnSpPr>
          <p:spPr>
            <a:xfrm rot="10800000">
              <a:off x="2626560" y="2494800"/>
              <a:ext cx="1513440" cy="298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труктура Россельхознадзора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99" name="Organization Chart 20"/>
          <p:cNvGrpSpPr/>
          <p:nvPr/>
        </p:nvGrpSpPr>
        <p:grpSpPr>
          <a:xfrm>
            <a:off x="900000" y="1699920"/>
            <a:ext cx="7848720" cy="4249800"/>
            <a:chOff x="900000" y="1699920"/>
            <a:chExt cx="7848720" cy="4249800"/>
          </a:xfrm>
        </p:grpSpPr>
        <p:sp>
          <p:nvSpPr>
            <p:cNvPr id="100" name="_s1028"/>
            <p:cNvSpPr/>
            <p:nvPr/>
          </p:nvSpPr>
          <p:spPr>
            <a:xfrm>
              <a:off x="1692360" y="1699920"/>
              <a:ext cx="3744720" cy="56052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ЦЕНТРАЛЬНЫЙ АППА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>
              <a:off x="5003640" y="3715920"/>
              <a:ext cx="3745080" cy="720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учно-исследователь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нституты и референтные цент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>
              <a:off x="5003640" y="4724280"/>
              <a:ext cx="3745080" cy="6141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етеринарные лаборатор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оссельхознадз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1"/>
            <p:cNvSpPr/>
            <p:nvPr/>
          </p:nvSpPr>
          <p:spPr>
            <a:xfrm>
              <a:off x="4932360" y="2492280"/>
              <a:ext cx="3816360" cy="9111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ерриториальные Управле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Россельхознадзора</a:t>
              </a:r>
              <a:br>
                <a:rPr sz="18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включая пограничные пункты пропус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_s1032"/>
            <p:cNvCxnSpPr>
              <a:stCxn id="101" idx="1"/>
              <a:endCxn id="100" idx="2"/>
            </p:cNvCxnSpPr>
            <p:nvPr/>
          </p:nvCxnSpPr>
          <p:spPr>
            <a:xfrm rot="10800000">
              <a:off x="3564720" y="2259720"/>
              <a:ext cx="1438920" cy="181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2"/>
            <p:cNvCxnSpPr>
              <a:stCxn id="102" idx="1"/>
              <a:endCxn id="100" idx="2"/>
            </p:cNvCxnSpPr>
            <p:nvPr/>
          </p:nvCxnSpPr>
          <p:spPr>
            <a:xfrm rot="10800000">
              <a:off x="3564720" y="2259720"/>
              <a:ext cx="1438920" cy="277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2"/>
            <p:cNvCxnSpPr>
              <a:stCxn id="103" idx="1"/>
              <a:endCxn id="100" idx="2"/>
            </p:cNvCxnSpPr>
            <p:nvPr/>
          </p:nvCxnSpPr>
          <p:spPr>
            <a:xfrm rot="10800000">
              <a:off x="3564720" y="2259720"/>
              <a:ext cx="1367640" cy="68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900000" y="2923920"/>
              <a:ext cx="1584360" cy="1512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Ветерина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лужб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убъект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оссийск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Федер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900000" y="4652640"/>
              <a:ext cx="1584360" cy="129708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Ветеринар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аборат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убъект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оссийск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Федер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_s1032"/>
            <p:cNvCxnSpPr>
              <a:stCxn id="107" idx="3"/>
            </p:cNvCxnSpPr>
            <p:nvPr/>
          </p:nvCxnSpPr>
          <p:spPr>
            <a:xfrm flipV="1">
              <a:off x="2484000" y="3666240"/>
              <a:ext cx="110268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0" name="_s1032"/>
            <p:cNvCxnSpPr>
              <a:stCxn id="108" idx="3"/>
            </p:cNvCxnSpPr>
            <p:nvPr/>
          </p:nvCxnSpPr>
          <p:spPr>
            <a:xfrm flipV="1">
              <a:off x="2484000" y="3677400"/>
              <a:ext cx="648360" cy="162468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хема осуществления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лабораторного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контроля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9" name="Organization Chart 10"/>
          <p:cNvGrpSpPr/>
          <p:nvPr/>
        </p:nvGrpSpPr>
        <p:grpSpPr>
          <a:xfrm>
            <a:off x="611280" y="1679400"/>
            <a:ext cx="7635960" cy="3981600"/>
            <a:chOff x="611280" y="1679400"/>
            <a:chExt cx="7635960" cy="3981600"/>
          </a:xfrm>
        </p:grpSpPr>
        <p:sp>
          <p:nvSpPr>
            <p:cNvPr id="220" name="_s7172"/>
            <p:cNvSpPr/>
            <p:nvPr/>
          </p:nvSpPr>
          <p:spPr>
            <a:xfrm>
              <a:off x="611280" y="1679400"/>
              <a:ext cx="3741480" cy="60012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Лабораторный 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31"/>
            <p:cNvSpPr/>
            <p:nvPr/>
          </p:nvSpPr>
          <p:spPr>
            <a:xfrm>
              <a:off x="3995640" y="3860640"/>
              <a:ext cx="4176720" cy="720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2. Взятие патматериала от павших живот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для исключения  заноса  возбудителя болезн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32"/>
            <p:cNvSpPr/>
            <p:nvPr/>
          </p:nvSpPr>
          <p:spPr>
            <a:xfrm>
              <a:off x="3995640" y="4869000"/>
              <a:ext cx="4251600" cy="79200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3. Отбор проб от продукции, не отвечающей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ветеринарно-санитарным требованиям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31"/>
            <p:cNvSpPr/>
            <p:nvPr/>
          </p:nvSpPr>
          <p:spPr>
            <a:xfrm>
              <a:off x="3992400" y="2852640"/>
              <a:ext cx="4108680" cy="72072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. Отбор проб в рамках мониторинг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4" name="_s1032"/>
            <p:cNvCxnSpPr>
              <a:stCxn id="221" idx="1"/>
              <a:endCxn id="220" idx="2"/>
            </p:cNvCxnSpPr>
            <p:nvPr/>
          </p:nvCxnSpPr>
          <p:spPr>
            <a:xfrm rot="10800000">
              <a:off x="2482200" y="2278800"/>
              <a:ext cx="1513440" cy="194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032"/>
            <p:cNvCxnSpPr>
              <a:stCxn id="223" idx="1"/>
              <a:endCxn id="220" idx="2"/>
            </p:cNvCxnSpPr>
            <p:nvPr/>
          </p:nvCxnSpPr>
          <p:spPr>
            <a:xfrm rot="10800000">
              <a:off x="2482200" y="2278800"/>
              <a:ext cx="1510200" cy="93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6" name="_s1032"/>
            <p:cNvCxnSpPr>
              <a:stCxn id="222" idx="1"/>
              <a:endCxn id="220" idx="2"/>
            </p:cNvCxnSpPr>
            <p:nvPr/>
          </p:nvCxnSpPr>
          <p:spPr>
            <a:xfrm rot="10800000">
              <a:off x="2482200" y="2278800"/>
              <a:ext cx="1513440" cy="298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Учет досмотренных и задержанных Россельхознадзором грузов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844640"/>
          <a:ext cx="8280360" cy="40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828036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Количество оформленных  Деклараций о возврате грузов происхождения стран членов ЕС за 2007 - 2008 года</a:t>
            </a:r>
            <a:endParaRPr b="1" lang="en-US" sz="21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71640" y="1916280"/>
          <a:ext cx="7272360" cy="40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7272360" cy="40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писок подведомственных Россельхознадзору лабораторий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03280" y="1600200"/>
          <a:ext cx="6939000" cy="4632480"/>
        </p:xfrm>
        <a:graphic>
          <a:graphicData uri="http://schemas.openxmlformats.org/drawingml/2006/table">
            <a:tbl>
              <a:tblPr/>
              <a:tblGrid>
                <a:gridCol w="855720"/>
                <a:gridCol w="2527200"/>
                <a:gridCol w="3556080"/>
              </a:tblGrid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Белгород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Брян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я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Иркут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емеров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алининград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нин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Ленинград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амчат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чат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Туль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ь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Челябин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яби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Новосибир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Примор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орский кр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Сахалин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ли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раснодар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Магадан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дан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Ставрополь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рополь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Саратов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Татар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Татар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Тверская 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е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Нацрыб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ЦНМВ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писок подведомственных Россельхознадзору лабораторий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продолжение)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403280" y="1628640"/>
          <a:ext cx="6929640" cy="4262400"/>
        </p:xfrm>
        <a:graphic>
          <a:graphicData uri="http://schemas.openxmlformats.org/drawingml/2006/table">
            <a:tbl>
              <a:tblPr/>
              <a:tblGrid>
                <a:gridCol w="800280"/>
                <a:gridCol w="2803320"/>
                <a:gridCol w="3326040"/>
              </a:tblGrid>
              <a:tr h="396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ЦНПВР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ВГ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Орлов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л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Нижегородская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Хабаров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ий кр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Амур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у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раснояр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Свердлов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дл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Башкир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Башкорто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Краснодар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Ленинград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ин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Ростов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Волгоград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Самарский Р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ВНИИЗ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ими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Центр оценки качества зе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У Центр карантина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11280" y="2608200"/>
            <a:ext cx="820872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1258920" y="3500280"/>
            <a:ext cx="69120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Функции Россельхознадзора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учет и анализ нарушений требований технических регламентов и других нормативных правовых документов; 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надзор за соблюдением органами государственной власти, органами местного самоуправления, их должностными лицами, юридическими лицами и гражданами законодательства Российской Федерации в сфере ветеринарии, в том числе: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надзор за выполнением ветеринарно-санитарных требований по безопасности продукции животного происхождения,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надзор за соблюдением ветеринарного законодательства Российской Федерации при организации строительства (реконструкции, модернизации) объектов по производству и хранению животноводческой продукции, а также при вводе их в эксплуатацию,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надзор за соблюдением законодательства Российской Федерации в отношении объектов животного мира, отнесенных к объектам охоты, и водных биологических ресурсов,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етеринарный надзор за производственной деятельностью в морских рыбных портах и на судах рыбопромыслового флота;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6964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Функции Россельхознадзора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продолжение)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организация и осуществление надзора на государственной границе Российской Федерации, а также на транспорте в сфере ветеринарии;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регистрация объектов надзора в сфере ветеринарии;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несение в пределах своей компетенции предложений о введении и отмене на территории Российской Федерации, субъекта Российской Федерации карантина и других ограничений, направленных на предотвращение распространения и ликвидацию очагов заразных и массовых болезней животных; 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ыдача: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ветеринарных сертификатов на поднадзорные грузы при их перевозках, 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5f5f5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разрешений (включая введение и отмену ограничений) на ввоз в Российскую Федерацию и на вывоз из Российской Федерации, а также на транзит по ее территории поднадзорных грузов;</a:t>
            </a:r>
            <a:endParaRPr b="0" lang="en-US" sz="17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представление в установленном порядке интересы Российской Федерации в международных организациях и во взаимоотношениях с иностранными государствами по вопросам обеспечения здоровья животных, безопасности сырья и продукции животного происхождения и кормов для животных.</a:t>
            </a:r>
            <a:endParaRPr b="0" lang="en-US" sz="19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Центральный аппарат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структура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16" name="Organization Chart 45"/>
          <p:cNvGrpSpPr/>
          <p:nvPr/>
        </p:nvGrpSpPr>
        <p:grpSpPr>
          <a:xfrm>
            <a:off x="641160" y="1738440"/>
            <a:ext cx="8135640" cy="4209480"/>
            <a:chOff x="641160" y="1738440"/>
            <a:chExt cx="8135640" cy="4209480"/>
          </a:xfrm>
        </p:grpSpPr>
        <p:sp>
          <p:nvSpPr>
            <p:cNvPr id="117" name="_s2052"/>
            <p:cNvSpPr/>
            <p:nvPr/>
          </p:nvSpPr>
          <p:spPr>
            <a:xfrm>
              <a:off x="2769840" y="1738440"/>
              <a:ext cx="3744720" cy="53640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КОВОДИ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641160" y="2658960"/>
              <a:ext cx="1799640" cy="7203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УКОВОД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1"/>
            <p:cNvSpPr/>
            <p:nvPr/>
          </p:nvSpPr>
          <p:spPr>
            <a:xfrm>
              <a:off x="712440" y="4076640"/>
              <a:ext cx="1439640" cy="1871280"/>
            </a:xfrm>
            <a:custGeom>
              <a:avLst/>
              <a:gdLst>
                <a:gd name="textAreaLeft" fmla="*/ 27360 w 1439640"/>
                <a:gd name="textAreaRight" fmla="*/ 1412280 w 1439640"/>
                <a:gd name="textAreaTop" fmla="*/ 27360 h 1871280"/>
                <a:gd name="textAreaBottom" fmla="*/ 1843920 h 1871280"/>
              </a:gdLst>
              <a:ahLst/>
              <a:rect l="textAreaLeft" t="textAreaTop" r="textAreaRight" b="textAreaBottom"/>
              <a:pathLst>
                <a:path w="21600" h="28075">
                  <a:moveTo>
                    <a:pt x="1413" y="0"/>
                  </a:moveTo>
                  <a:arcTo wR="1413" hR="1413" stAng="16200000" swAng="-5400000"/>
                  <a:lnTo>
                    <a:pt x="0" y="26662"/>
                  </a:lnTo>
                  <a:arcTo wR="1413" hR="1413" stAng="10800000" swAng="-5400000"/>
                  <a:lnTo>
                    <a:pt x="20187" y="28075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ветеринар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надзор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2"/>
            <p:cNvSpPr/>
            <p:nvPr/>
          </p:nvSpPr>
          <p:spPr>
            <a:xfrm>
              <a:off x="2800080" y="2657520"/>
              <a:ext cx="1800000" cy="7203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УКОВОД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4960800" y="2657520"/>
              <a:ext cx="1799640" cy="7203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УКОВОД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2"/>
            <p:cNvSpPr/>
            <p:nvPr/>
          </p:nvSpPr>
          <p:spPr>
            <a:xfrm>
              <a:off x="6976800" y="2657520"/>
              <a:ext cx="1800000" cy="72036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УКОВОД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2296800" y="4076640"/>
              <a:ext cx="1726920" cy="1871280"/>
            </a:xfrm>
            <a:custGeom>
              <a:avLst/>
              <a:gdLst>
                <a:gd name="textAreaLeft" fmla="*/ 32760 w 1726920"/>
                <a:gd name="textAreaRight" fmla="*/ 1694160 w 1726920"/>
                <a:gd name="textAreaTop" fmla="*/ 32760 h 1871280"/>
                <a:gd name="textAreaBottom" fmla="*/ 1838520 h 1871280"/>
              </a:gdLst>
              <a:ahLst/>
              <a:rect l="textAreaLeft" t="textAreaTop" r="textAreaRight" b="textAreaBottom"/>
              <a:pathLst>
                <a:path w="21600" h="23405">
                  <a:moveTo>
                    <a:pt x="1413" y="0"/>
                  </a:moveTo>
                  <a:arcTo wR="1413" hR="1413" stAng="16200000" swAng="-5400000"/>
                  <a:lnTo>
                    <a:pt x="0" y="21992"/>
                  </a:lnTo>
                  <a:arcTo wR="1413" hR="1413" stAng="10800000" swAng="-5400000"/>
                  <a:lnTo>
                    <a:pt x="20187" y="23405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тосанитар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адзора и надзо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в сфере качества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безопасности зер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и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его перерабо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1"/>
            <p:cNvSpPr/>
            <p:nvPr/>
          </p:nvSpPr>
          <p:spPr>
            <a:xfrm>
              <a:off x="7408800" y="4076640"/>
              <a:ext cx="1296360" cy="1871280"/>
            </a:xfrm>
            <a:custGeom>
              <a:avLst/>
              <a:gdLst>
                <a:gd name="textAreaLeft" fmla="*/ 24840 w 1296360"/>
                <a:gd name="textAreaRight" fmla="*/ 1271520 w 1296360"/>
                <a:gd name="textAreaTop" fmla="*/ 24840 h 1871280"/>
                <a:gd name="textAreaBottom" fmla="*/ 1846440 h 1871280"/>
              </a:gdLst>
              <a:ahLst/>
              <a:rect l="textAreaLeft" t="textAreaTop" r="textAreaRight" b="textAreaBottom"/>
              <a:pathLst>
                <a:path w="21600" h="31177">
                  <a:moveTo>
                    <a:pt x="1413" y="0"/>
                  </a:moveTo>
                  <a:arcTo wR="1413" hR="1413" stAng="16200000" swAng="-5400000"/>
                  <a:lnTo>
                    <a:pt x="0" y="29764"/>
                  </a:lnTo>
                  <a:arcTo wR="1413" hR="1413" stAng="10800000" swAng="-5400000"/>
                  <a:lnTo>
                    <a:pt x="20187" y="31177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финансов 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беспеч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1"/>
            <p:cNvSpPr/>
            <p:nvPr/>
          </p:nvSpPr>
          <p:spPr>
            <a:xfrm>
              <a:off x="5608440" y="4076640"/>
              <a:ext cx="1655280" cy="1871280"/>
            </a:xfrm>
            <a:custGeom>
              <a:avLst/>
              <a:gdLst>
                <a:gd name="textAreaLeft" fmla="*/ 31680 w 1655280"/>
                <a:gd name="textAreaRight" fmla="*/ 1623600 w 1655280"/>
                <a:gd name="textAreaTop" fmla="*/ 31680 h 1871280"/>
                <a:gd name="textAreaBottom" fmla="*/ 1839600 h 1871280"/>
              </a:gdLst>
              <a:ahLst/>
              <a:rect l="textAreaLeft" t="textAreaTop" r="textAreaRight" b="textAreaBottom"/>
              <a:pathLst>
                <a:path w="21600" h="24418">
                  <a:moveTo>
                    <a:pt x="1413" y="0"/>
                  </a:moveTo>
                  <a:arcTo wR="1413" hR="1413" stAng="16200000" swAng="-5400000"/>
                  <a:lnTo>
                    <a:pt x="0" y="23005"/>
                  </a:lnTo>
                  <a:arcTo wR="1413" hR="1413" stAng="10800000" swAng="-5400000"/>
                  <a:lnTo>
                    <a:pt x="20187" y="24418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рганизацион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инспекторско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управл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1"/>
            <p:cNvSpPr/>
            <p:nvPr/>
          </p:nvSpPr>
          <p:spPr>
            <a:xfrm>
              <a:off x="4168440" y="4076640"/>
              <a:ext cx="1295280" cy="1871280"/>
            </a:xfrm>
            <a:custGeom>
              <a:avLst/>
              <a:gdLst>
                <a:gd name="textAreaLeft" fmla="*/ 24480 w 1295280"/>
                <a:gd name="textAreaRight" fmla="*/ 1270800 w 1295280"/>
                <a:gd name="textAreaTop" fmla="*/ 24480 h 1871280"/>
                <a:gd name="textAreaBottom" fmla="*/ 1846800 h 1871280"/>
              </a:gdLst>
              <a:ahLst/>
              <a:rect l="textAreaLeft" t="textAreaTop" r="textAreaRight" b="textAreaBottom"/>
              <a:pathLst>
                <a:path w="21600" h="31203">
                  <a:moveTo>
                    <a:pt x="1413" y="0"/>
                  </a:moveTo>
                  <a:arcTo wR="1413" hR="1413" stAng="16200000" swAng="-5400000"/>
                  <a:lnTo>
                    <a:pt x="0" y="29790"/>
                  </a:lnTo>
                  <a:arcTo wR="1413" hR="1413" stAng="10800000" swAng="-5400000"/>
                  <a:lnTo>
                    <a:pt x="20187" y="31203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999966"/>
                </a:gs>
                <a:gs pos="50000">
                  <a:srgbClr val="bbba98"/>
                </a:gs>
                <a:gs pos="100000">
                  <a:srgbClr val="99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земель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контрол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2"/>
            <p:cNvSpPr/>
            <p:nvPr/>
          </p:nvSpPr>
          <p:spPr>
            <a:xfrm flipH="1">
              <a:off x="3231720" y="3367080"/>
              <a:ext cx="108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2"/>
            <p:cNvSpPr/>
            <p:nvPr/>
          </p:nvSpPr>
          <p:spPr>
            <a:xfrm>
              <a:off x="1473120" y="3368520"/>
              <a:ext cx="108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8"/>
            <p:cNvSpPr/>
            <p:nvPr/>
          </p:nvSpPr>
          <p:spPr>
            <a:xfrm flipH="1">
              <a:off x="1906200" y="2278080"/>
              <a:ext cx="187128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5"/>
            <p:cNvSpPr/>
            <p:nvPr/>
          </p:nvSpPr>
          <p:spPr>
            <a:xfrm>
              <a:off x="4930560" y="2278080"/>
              <a:ext cx="72036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7"/>
            <p:cNvSpPr/>
            <p:nvPr/>
          </p:nvSpPr>
          <p:spPr>
            <a:xfrm flipH="1">
              <a:off x="3850920" y="2278080"/>
              <a:ext cx="57456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6"/>
            <p:cNvSpPr/>
            <p:nvPr/>
          </p:nvSpPr>
          <p:spPr>
            <a:xfrm>
              <a:off x="5578200" y="2278080"/>
              <a:ext cx="208728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0"/>
            <p:cNvSpPr/>
            <p:nvPr/>
          </p:nvSpPr>
          <p:spPr>
            <a:xfrm>
              <a:off x="6225840" y="3365280"/>
              <a:ext cx="144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9"/>
            <p:cNvSpPr/>
            <p:nvPr/>
          </p:nvSpPr>
          <p:spPr>
            <a:xfrm>
              <a:off x="4425840" y="3365280"/>
              <a:ext cx="108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1"/>
            <p:cNvSpPr/>
            <p:nvPr/>
          </p:nvSpPr>
          <p:spPr>
            <a:xfrm>
              <a:off x="8026200" y="3365280"/>
              <a:ext cx="108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71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Управление ветеринарного надзор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37" name="Organization Chart 3"/>
          <p:cNvGrpSpPr/>
          <p:nvPr/>
        </p:nvGrpSpPr>
        <p:grpSpPr>
          <a:xfrm>
            <a:off x="712800" y="1773360"/>
            <a:ext cx="7921080" cy="4209480"/>
            <a:chOff x="712800" y="1773360"/>
            <a:chExt cx="7921080" cy="4209480"/>
          </a:xfrm>
        </p:grpSpPr>
        <p:sp>
          <p:nvSpPr>
            <p:cNvPr id="138" name="_s3076"/>
            <p:cNvSpPr/>
            <p:nvPr/>
          </p:nvSpPr>
          <p:spPr>
            <a:xfrm>
              <a:off x="2728800" y="1773360"/>
              <a:ext cx="3744720" cy="536400"/>
            </a:xfrm>
            <a:prstGeom prst="roundRect">
              <a:avLst>
                <a:gd name="adj" fmla="val 5889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АЧАЛЬНИК УПРАВЛЕН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2"/>
            <p:cNvSpPr/>
            <p:nvPr/>
          </p:nvSpPr>
          <p:spPr>
            <a:xfrm>
              <a:off x="785880" y="2670120"/>
              <a:ext cx="1799640" cy="720360"/>
            </a:xfrm>
            <a:prstGeom prst="roundRect">
              <a:avLst>
                <a:gd name="adj" fmla="val 6542"/>
              </a:avLst>
            </a:prstGeom>
            <a:solidFill>
              <a:srgbClr val="c3c4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ЧАЛЬНИ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712800" y="4111560"/>
              <a:ext cx="2231640" cy="187128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Государствен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ветеринарного надзор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на Государствен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границе Российск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Федерации и транспорт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736800" y="2670120"/>
              <a:ext cx="1800000" cy="720360"/>
            </a:xfrm>
            <a:prstGeom prst="roundRect">
              <a:avLst>
                <a:gd name="adj" fmla="val 6542"/>
              </a:avLst>
            </a:prstGeom>
            <a:solidFill>
              <a:srgbClr val="c3c4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ЧАЛЬНИ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32"/>
            <p:cNvSpPr/>
            <p:nvPr/>
          </p:nvSpPr>
          <p:spPr>
            <a:xfrm>
              <a:off x="6689520" y="2670120"/>
              <a:ext cx="1800000" cy="720360"/>
            </a:xfrm>
            <a:prstGeom prst="roundRect">
              <a:avLst>
                <a:gd name="adj" fmla="val 6542"/>
              </a:avLst>
            </a:prstGeom>
            <a:solidFill>
              <a:srgbClr val="c3c4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АМЕСТИТЕЛЬ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ЧАЛЬНИК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1"/>
            <p:cNvSpPr/>
            <p:nvPr/>
          </p:nvSpPr>
          <p:spPr>
            <a:xfrm>
              <a:off x="3090960" y="4111560"/>
              <a:ext cx="1510920" cy="1871280"/>
            </a:xfrm>
            <a:custGeom>
              <a:avLst/>
              <a:gdLst>
                <a:gd name="textAreaLeft" fmla="*/ 28800 w 1510920"/>
                <a:gd name="textAreaRight" fmla="*/ 1482120 w 1510920"/>
                <a:gd name="textAreaTop" fmla="*/ 28800 h 1871280"/>
                <a:gd name="textAreaBottom" fmla="*/ 1842480 h 1871280"/>
              </a:gdLst>
              <a:ahLst/>
              <a:rect l="textAreaLeft" t="textAreaTop" r="textAreaRight" b="textAreaBottom"/>
              <a:pathLst>
                <a:path w="21600" h="26750">
                  <a:moveTo>
                    <a:pt x="1413" y="0"/>
                  </a:moveTo>
                  <a:arcTo wR="1413" hR="1413" stAng="16200000" swAng="-5400000"/>
                  <a:lnTo>
                    <a:pt x="0" y="25337"/>
                  </a:lnTo>
                  <a:arcTo wR="1413" hR="1413" stAng="10800000" swAng="-5400000"/>
                  <a:lnTo>
                    <a:pt x="20187" y="26750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рганизационно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методическ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работ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6545160" y="4111560"/>
              <a:ext cx="2088720" cy="1871280"/>
            </a:xfrm>
            <a:prstGeom prst="roundRect">
              <a:avLst>
                <a:gd name="adj" fmla="val 6542"/>
              </a:avLst>
            </a:pr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тдел сотрудничест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с ветеринарны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служба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зарубежных стран 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международны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рганизациям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1"/>
            <p:cNvSpPr/>
            <p:nvPr/>
          </p:nvSpPr>
          <p:spPr>
            <a:xfrm>
              <a:off x="4744800" y="4111560"/>
              <a:ext cx="1657080" cy="1871280"/>
            </a:xfrm>
            <a:custGeom>
              <a:avLst/>
              <a:gdLst>
                <a:gd name="textAreaLeft" fmla="*/ 31680 w 1657080"/>
                <a:gd name="textAreaRight" fmla="*/ 1625400 w 1657080"/>
                <a:gd name="textAreaTop" fmla="*/ 31680 h 1871280"/>
                <a:gd name="textAreaBottom" fmla="*/ 1839600 h 1871280"/>
              </a:gdLst>
              <a:ahLst/>
              <a:rect l="textAreaLeft" t="textAreaTop" r="textAreaRight" b="textAreaBottom"/>
              <a:pathLst>
                <a:path w="21600" h="24391">
                  <a:moveTo>
                    <a:pt x="1413" y="0"/>
                  </a:moveTo>
                  <a:arcTo wR="1413" hR="1413" stAng="16200000" swAng="-5400000"/>
                  <a:lnTo>
                    <a:pt x="0" y="22978"/>
                  </a:lnTo>
                  <a:arcTo wR="1413" hR="1413" stAng="10800000" swAng="-5400000"/>
                  <a:lnTo>
                    <a:pt x="20187" y="24391"/>
                  </a:lnTo>
                  <a:arcTo wR="1413" hR="1413" stAng="5400000" swAng="-5400000"/>
                  <a:lnTo>
                    <a:pt x="21600" y="1413"/>
                  </a:lnTo>
                  <a:arcTo wR="1413" hR="1413" stAng="0" swAng="-5400000"/>
                  <a:close/>
                </a:path>
              </a:pathLst>
            </a:custGeom>
            <a:gradFill rotWithShape="0">
              <a:gsLst>
                <a:gs pos="0">
                  <a:srgbClr val="a7a55b"/>
                </a:gs>
                <a:gs pos="50000">
                  <a:srgbClr val="c3c490"/>
                </a:gs>
                <a:gs pos="100000">
                  <a:srgbClr val="a7a55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Отдел надзора з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безопасность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продук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живот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происхождения 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лабораторног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контрол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 flipH="1">
              <a:off x="5178240" y="3390840"/>
              <a:ext cx="144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>
              <a:off x="1649160" y="3390840"/>
              <a:ext cx="144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0"/>
            <p:cNvSpPr/>
            <p:nvPr/>
          </p:nvSpPr>
          <p:spPr>
            <a:xfrm flipH="1">
              <a:off x="1618920" y="2316240"/>
              <a:ext cx="1728360" cy="32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 flipH="1">
              <a:off x="4284360" y="2316240"/>
              <a:ext cx="108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5148360" y="2316240"/>
              <a:ext cx="2086920" cy="358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7235640" y="3395520"/>
              <a:ext cx="144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4066920" y="3395520"/>
              <a:ext cx="1440" cy="72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76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Times New Roman"/>
              </a:rPr>
              <a:t>Предварительные процедуры при импорте животных и продукции животного происхождения</a:t>
            </a:r>
            <a:endParaRPr b="1" lang="en-US" sz="25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08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знание иностранного государства (или части его территории) благополучным в ветеринарно-санитарном отношении по определенному виду животных / животноводческой продукции</a:t>
            </a:r>
            <a:endParaRPr b="0" lang="en-US" sz="21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Разработка и парафирование ветеринарных сертификатов по определенному виду подконтрольного груза с Ветеринарной администрацией заинтересованного государства</a:t>
            </a:r>
            <a:endParaRPr b="0" lang="en-US" sz="21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Определение Списка предприятий по мнению Ветеринарной администрацией заинтересованного государства, соответствующих ветеринарно-санитарным требованиям Российской Федерации </a:t>
            </a:r>
            <a:endParaRPr b="0" lang="en-US" sz="21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оверка (инспектирование) определенных Списком предприятий специалистами Россельхознадзора</a:t>
            </a:r>
            <a:endParaRPr b="0" lang="en-US" sz="21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99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Утверждение Списка предприятий заинтересованного иностранного государства, аттестованных на право экспорта продукции в Российскую Федерацию</a:t>
            </a:r>
            <a:endParaRPr b="0" lang="en-US" sz="21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340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оличество предприятий / судов по производству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и хранению продукции животного происхождени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340000" y="1600200"/>
          <a:ext cx="4680000" cy="4551480"/>
        </p:xfrm>
        <a:graphic>
          <a:graphicData uri="http://schemas.openxmlformats.org/drawingml/2006/table">
            <a:tbl>
              <a:tblPr/>
              <a:tblGrid>
                <a:gridCol w="749160"/>
                <a:gridCol w="2170080"/>
                <a:gridCol w="1760760"/>
              </a:tblGrid>
              <a:tr h="67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 /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ен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/ 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етн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/ 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7e9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Количество предприятий / судов по производству и хранению продукции животного происхождени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продолжение)</a:t>
            </a:r>
            <a:endParaRPr b="1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627280" y="1600200"/>
          <a:ext cx="4392720" cy="4565520"/>
        </p:xfrm>
        <a:graphic>
          <a:graphicData uri="http://schemas.openxmlformats.org/drawingml/2006/table">
            <a:tbl>
              <a:tblPr/>
              <a:tblGrid>
                <a:gridCol w="703440"/>
                <a:gridCol w="2036520"/>
                <a:gridCol w="1652760"/>
              </a:tblGrid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ум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Коре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кс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д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го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дерл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Зела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гв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13:35:35Z</dcterms:created>
  <dc:creator>Пользователь2</dc:creator>
  <dc:description/>
  <dc:language>en-US</dc:language>
  <cp:lastModifiedBy>user</cp:lastModifiedBy>
  <dcterms:modified xsi:type="dcterms:W3CDTF">2009-01-11T13:01:17Z</dcterms:modified>
  <cp:revision>72</cp:revision>
  <dc:subject/>
  <dc:title>Федеральная служба по ветеринарному и фитосанитарному надзору (Россельхознадзор)</dc:title>
</cp:coreProperties>
</file>