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24.jpeg" ContentType="image/jpeg"/>
  <Override PartName="/ppt/media/image22.png" ContentType="image/png"/>
  <Override PartName="/ppt/media/image4.wmf" ContentType="image/x-wmf"/>
  <Override PartName="/ppt/media/image23.png" ContentType="image/png"/>
  <Override PartName="/ppt/media/image5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896920" cy="455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54000" y="759960"/>
            <a:ext cx="4881600" cy="366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15840" y="4726080"/>
            <a:ext cx="4951440" cy="441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2"/>
          </p:nvPr>
        </p:nvSpPr>
        <p:spPr>
          <a:xfrm>
            <a:off x="-360" y="937404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3"/>
          </p:nvPr>
        </p:nvSpPr>
        <p:spPr>
          <a:xfrm>
            <a:off x="3884400" y="9374040"/>
            <a:ext cx="2896920" cy="5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81AA5-158D-4F60-B38C-4AB8467A94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81600" cy="3660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5840" y="4726080"/>
            <a:ext cx="4951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9374040"/>
            <a:ext cx="289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DB2F7B-E00A-4BCC-A2C8-B82665857B36}" type="slidenum"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9374040"/>
            <a:ext cx="289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1CDDBB-304C-4EB5-B1FD-22FE0E7C789F}" type="slidenum"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81600" cy="3660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5840" y="4726080"/>
            <a:ext cx="4951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9374040"/>
            <a:ext cx="289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68526-357D-4DAE-93DC-49120FA2BA5E}" type="slidenum"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9374040"/>
            <a:ext cx="289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0D32F-0A3C-4746-9393-10EED43E3D16}" type="slidenum"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9374040"/>
            <a:ext cx="289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462C3-FBA3-441B-8BCB-E7D85F51A022}" type="slidenum"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9374040"/>
            <a:ext cx="289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506E0B-B066-4BF5-BC70-61C9D042D34F}" type="slidenum"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9374040"/>
            <a:ext cx="289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64407-31E4-4EA7-B2D8-78AD74B693B4}" type="slidenum"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39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40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41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2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5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47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8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1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53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4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7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59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3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65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71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72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75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78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81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84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87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90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93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2743200"/>
            <a:ext cx="9144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РЕЗУЛЬТАТЫ МОНИТОРИНГА ПРОДУКЦИИ ЖИВОТНОГО ПРОИСХОЖДЕНИЯ  И КОРМОВ В </a:t>
            </a:r>
            <a:r>
              <a:rPr b="1" lang="ru-RU" sz="2200" spc="-1" strike="noStrike">
                <a:solidFill>
                  <a:srgbClr val="993300"/>
                </a:solidFill>
                <a:latin typeface="Times New Roman"/>
              </a:rPr>
              <a:t>2008</a:t>
            </a: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 ГОДУ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371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176"/>
                </a:solidFill>
                <a:latin typeface="Arial"/>
              </a:rPr>
              <a:t>ФЕДЕРАЛЬНАЯ СЛУЖБА ПО ВЕТЕРИНАРНОМУ И ФИТОСАНИТАРНОМУ НАДЗОРУ</a:t>
            </a:r>
            <a:endParaRPr b="1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176"/>
                </a:solidFill>
                <a:latin typeface="Times New Roman"/>
              </a:rPr>
              <a:t>          </a:t>
            </a:r>
            <a:r>
              <a:rPr b="1" i="1" lang="ru-RU" sz="1400" spc="-1" strike="noStrike">
                <a:solidFill>
                  <a:srgbClr val="404176"/>
                </a:solidFill>
                <a:latin typeface="Times New Roman"/>
              </a:rPr>
              <a:t>(РОССЕЛЬХОЗНАДЗОР)</a:t>
            </a:r>
            <a:endParaRPr b="1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142" name="Picture 5" descr="орел"/>
          <p:cNvPicPr/>
          <p:nvPr/>
        </p:nvPicPr>
        <p:blipFill>
          <a:blip r:embed="rId1"/>
          <a:stretch/>
        </p:blipFill>
        <p:spPr>
          <a:xfrm>
            <a:off x="4191120" y="457200"/>
            <a:ext cx="914400" cy="86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осударственная программа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142640"/>
            <a:ext cx="8177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Группа В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. Ветеринарные лекарственные средства и другие контаминанты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33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3. Другие вещества и контаминанты окружающей сред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3а. Хлорорганические соединения, включая полихлорированные бифенил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3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Фосфорорганические пестицид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 Химические элемент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 Другие вещества: нитраты, нитриты, про-чие пестициды, нитрозамины, бенз(а)пирен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3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Микотоксин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 Красител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Arial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осударственная программа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680" y="1142640"/>
            <a:ext cx="817704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икробиологические показатели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бщая бактериальная обсемененность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Бактерии группы кишечной палочк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альмонелл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Листери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арагемолитические вибрион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ульфитредуцирующие клостриди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Золотистый стафилокок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Радионуклиды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Цезий-137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тронций-9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осударственная программа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2960" y="1142640"/>
            <a:ext cx="8105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Для массовых исследований образцов в лабо-раториях  применяют  следующие методы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ммуноферментный анализ (ИФА)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Тонкослойная хроматография (ТСХ, ВЭТСХ)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нверсионная вольтамперометрия и ионометрия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томная абсорбция, в т.ч. беспламенная ААС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азовая хроматография (ГХ)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Радиометрия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Классические химические методы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Классические бактериологические методы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осударственная программа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143000"/>
            <a:ext cx="817704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и выявлении положительных образцов,  для подтверждающих и арбитражных исследований  применяют методы, отличающиеся более высокой чувствительностью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азовая хроматография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хромато-масс-спектрометрия (ГХ/МС)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ысокоэффективная жидкостная хроматография (ВЭЖХ)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ЭЖХ - МС (МС-МС)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етодический  подход к проведению  исследований и подбору скрининг-тестов и подтверждающих тестов осуществляется согласно ст.3. Решения Комиссии 2002/657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зультаты мониторинга в 2008 г.</a:t>
            </a:r>
            <a:br>
              <a:rPr sz="2800"/>
            </a:b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Исследовано 136745 образцов.</a:t>
            </a:r>
            <a:br>
              <a:rPr sz="2400"/>
            </a:b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Ксенобиотики обнаружены в 2498 (1,8%).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7151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169" name="Диаграмма 7" descr=""/>
          <p:cNvPicPr/>
          <p:nvPr/>
        </p:nvPicPr>
        <p:blipFill>
          <a:blip r:embed="rId1"/>
          <a:stretch/>
        </p:blipFill>
        <p:spPr>
          <a:xfrm>
            <a:off x="974880" y="1914480"/>
            <a:ext cx="7126200" cy="36385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8246160" y="630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171" name="Object 6"/>
          <p:cNvGraphicFramePr/>
          <p:nvPr/>
        </p:nvGraphicFramePr>
        <p:xfrm>
          <a:off x="7524720" y="-485640"/>
          <a:ext cx="20764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720" y="-485640"/>
                    <a:ext cx="2076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539640" y="1413000"/>
          <a:ext cx="7944120" cy="48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794412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3"/>
          <p:cNvSpPr/>
          <p:nvPr/>
        </p:nvSpPr>
        <p:spPr>
          <a:xfrm>
            <a:off x="8246160" y="630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324000" y="1143000"/>
            <a:ext cx="8496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Контаминанты и загрязнители, выявленные в продукции в результате лабораторного мониторинга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ясо всех видов: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щая обсемененность  - 745 (5,1% проанализированных образцов)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актерии групп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00 (4,7% проанализированных образцов)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альмонеллы – 292 (1,6% проанализированных образцов)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cytogen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194 (1,1% проанализированных образцов)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ли тяжёлых металлов – 14 (0,32%)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нтибиотики – 135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кцидиостатики – 33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зультаты мониторинга в 2008 году</a:t>
            </a:r>
            <a:endParaRPr b="1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8246160" y="630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зультаты мониторинга в 2008 году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143000"/>
            <a:ext cx="817704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Контаминанты и загрязнители, выявленные в продукции в результате лабораторного мониторинг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ыба и морепродукты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обсемененность  - 520 (11% проанализированных образцов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актерии групп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298 (7% проанализированных образцов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альмонеллы – 28 (0,5% проанализированных образцов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cytogen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83 (1,4% проанализированных образцов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агулазопозитивный стафилококк – 63 (1,9%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ли тяжёлых металлов – 76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246160" y="630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2924280"/>
            <a:ext cx="914400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РЕЗУЛЬТАТЫ МОНИТОРИНГА ПРОДУКЦИИ ЖИВОТНОГО ПРОИСХОЖДЕНИЯ И КОРМОВ В </a:t>
            </a:r>
            <a:r>
              <a:rPr b="1" lang="ru-RU" sz="2200" spc="-1" strike="noStrike">
                <a:solidFill>
                  <a:srgbClr val="993300"/>
                </a:solidFill>
                <a:latin typeface="Times New Roman"/>
              </a:rPr>
              <a:t>2008</a:t>
            </a: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 ГОДУ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( Целевые подпрограммы )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1371600"/>
            <a:ext cx="91440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ФЕДЕРАЛЬНОЕ ГОСУДАРСТВЕННОЕ УЧРЕЖДЕНИЕ</a:t>
            </a:r>
            <a:endParaRPr b="1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ВСЕРОССИЙСКИЙ ГОСУДАРСТВЕННЫЙ ЦЕНТР КАЧЕСТВА И СТАНДАРТИЗАЦИИ ЛЕКАРСТВЕННЫХ СРЕДСТВ ДЛЯ ЖИВОТНЫХ И КОРМОВ ФГУ «ВГНКИ»</a:t>
            </a:r>
            <a:endParaRPr b="1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176"/>
                </a:solidFill>
                <a:latin typeface="Times New Roman"/>
              </a:rPr>
              <a:t>          </a:t>
            </a:r>
            <a:r>
              <a:rPr b="1" i="1" lang="ru-RU" sz="1400" spc="-1" strike="noStrike">
                <a:solidFill>
                  <a:srgbClr val="404176"/>
                </a:solidFill>
                <a:latin typeface="Times New Roman"/>
              </a:rPr>
              <a:t>ЦЕНТР ВСЕМИРНОЙ ОРГАНИЗАЦИИ ЗДРАВООХРАНЕНИЯ ЖИВОТНЫХ</a:t>
            </a:r>
            <a:r>
              <a:rPr b="1" i="1" lang="ru-RU" sz="1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 ПО ПИЩЕВОЙ БЕЗОПАСНОСТИ,</a:t>
            </a:r>
            <a:r>
              <a:rPr b="1" i="1" lang="en-US" sz="1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404176"/>
                </a:solidFill>
                <a:latin typeface="Times New Roman"/>
              </a:rPr>
              <a:t>ДИАГНОСТИКЕ</a:t>
            </a:r>
            <a:endParaRPr b="1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400" spc="-1" strike="noStrike">
                <a:solidFill>
                  <a:srgbClr val="404176"/>
                </a:solidFill>
                <a:latin typeface="Times New Roman"/>
              </a:rPr>
              <a:t>           </a:t>
            </a:r>
            <a:r>
              <a:rPr b="1" i="1" lang="ru-RU" sz="1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И БОРЬБЕ С БОЛЕЗНЯМИ ЖИВОТНЫХ ДЛЯ СТРАН ВОСТОЧНОЙ ЕВРОПЫ, ЦЕНТРАЛЬНОЙ АЗИИ И ЗАКАВКАЗЬЯ </a:t>
            </a:r>
            <a:endParaRPr b="1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184" name="Picture 4" descr="logo2"/>
          <p:cNvPicPr/>
          <p:nvPr/>
        </p:nvPicPr>
        <p:blipFill>
          <a:blip r:embed="rId1"/>
          <a:stretch/>
        </p:blipFill>
        <p:spPr>
          <a:xfrm>
            <a:off x="0" y="25653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орел"/>
          <p:cNvPicPr/>
          <p:nvPr/>
        </p:nvPicPr>
        <p:blipFill>
          <a:blip r:embed="rId2"/>
          <a:stretch/>
        </p:blipFill>
        <p:spPr>
          <a:xfrm>
            <a:off x="4191120" y="457200"/>
            <a:ext cx="914400" cy="861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8246160" y="638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719440" y="620640"/>
            <a:ext cx="4311720" cy="5953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8246160" y="630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результатов инспекции  предприятий по производству продукции животного происхождения и кормов,проведенной сотрудниками  Россельхознадзора  в течение последнего времени  во многих странах мира показал,что предприятия-экспортеры не всегда учитывают российские нормы безопасности поставляемой ими продукции, а ветеринарные службы   стран-экспортеров зачастую формально подходят к подписанию ветеринарных сертификатов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ледуя цель содействия и облегчения ведения международной торговли, Россельхознадзор, тем не менее, считает, что вопросы безопасности продукции    в силу своей социальной значимости имеют  первостепенное значение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де подготовки России    к вступлению в ВТО Правительство Российской Федерации выделило  Россельхознадзору значительные     финансовые средства на приобретения современного лабораторного оборудования  и гармонизацию     нормативно-правовой базы для  проведения мониторинга безопасности пищевой продукции и кормов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8330040" y="63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666880" y="476280"/>
            <a:ext cx="4402080" cy="62355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8246160" y="630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560680" y="620640"/>
            <a:ext cx="4464000" cy="607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8246160" y="630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252680" cy="61023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8246160" y="630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17520" y="620640"/>
            <a:ext cx="847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8246160" y="630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404176"/>
                </a:solidFill>
                <a:latin typeface="Times New Roman"/>
              </a:rPr>
              <a:t>Мониторинг продукции животного происхождения 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8560" y="980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2008 г. в порядке мониторинга поступило 5017 образцов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611280" y="1916280"/>
          <a:ext cx="7489800" cy="37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748980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5"/>
          <p:cNvSpPr/>
          <p:nvPr/>
        </p:nvSpPr>
        <p:spPr>
          <a:xfrm>
            <a:off x="8246160" y="638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Страны-производители продукции, поступившей в ФГУ «ВГНКИ» для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1676520" y="1447920"/>
          <a:ext cx="580392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580392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4"/>
          <p:cNvSpPr/>
          <p:nvPr/>
        </p:nvSpPr>
        <p:spPr>
          <a:xfrm>
            <a:off x="8246160" y="638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В результате выполнения программ мониторинга проведено испытание 2380 образцов продукции животноводства, поступившей по импорту, В 164 образцах обнаружены ксенобиотики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что составля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6,9%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889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нтибиотики тетрациклиновой группы - 90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кцидиостатики – 66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лорамфеникол – 3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теолитические ферменты в икре – 3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246160" y="638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ОПРЕДЕЛЕНИЕ ОСТАТОЧНОГО СОДЕРЖАНИЯ ПРИОРИТЕТНЫХ ГРУПП АНТИБИОТИКОВ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916280"/>
            <a:ext cx="8763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000"/>
                </a:solidFill>
                <a:latin typeface="Times New Roman"/>
              </a:rPr>
              <a:t>Тетрациклины – наиболее часто используемые антибиотики (в странах ЕС более 52% от всех антибиотиков, используемых в животноводстве и ветеринарии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000"/>
                </a:solidFill>
                <a:latin typeface="Times New Roman"/>
              </a:rPr>
              <a:t>Повсеместное использование антибиотиков тетрациклиновой группы, а также достаточно длительный период ожидания (более 20 дней) увеличивают вероятность попадания их остатков в продукцию животноводств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000"/>
                </a:solidFill>
                <a:latin typeface="Times New Roman"/>
              </a:rPr>
              <a:t>Тетрациклин является антибиотиком, наиболее часто обнаруживаемым в количествах, превышающих МДУ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246160" y="638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Максимально-допустимые уровни остаточного содержания антибиотиков тетрациклиновой группы в продукции животноводства</a:t>
            </a: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1600200"/>
          <a:ext cx="9144000" cy="3711600"/>
        </p:xfrm>
        <a:graphic>
          <a:graphicData uri="http://schemas.openxmlformats.org/drawingml/2006/table">
            <a:tbl>
              <a:tblPr/>
              <a:tblGrid>
                <a:gridCol w="1676520"/>
                <a:gridCol w="1904760"/>
                <a:gridCol w="1905120"/>
                <a:gridCol w="1905120"/>
                <a:gridCol w="1752480"/>
              </a:tblGrid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екс Алиментариус,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оле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кг/кг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-во ЕС,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оле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кг/кг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-во США, не более, мкг/кг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-во РФ,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ПинН 2.3.4.1078-01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ки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допускается*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чень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»-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ясо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»-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йца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»-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»-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47"/>
          <p:cNvSpPr/>
          <p:nvPr/>
        </p:nvSpPr>
        <p:spPr>
          <a:xfrm>
            <a:off x="0" y="5629320"/>
            <a:ext cx="77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5" name="Text Box 48"/>
          <p:cNvSpPr/>
          <p:nvPr/>
        </p:nvSpPr>
        <p:spPr>
          <a:xfrm>
            <a:off x="-59040" y="5638680"/>
            <a:ext cx="579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2645"/>
                </a:solidFill>
                <a:latin typeface="Times New Roman"/>
              </a:rPr>
              <a:t>* менее 10 мкг/кг (предел определения микробиологического метода)</a:t>
            </a:r>
            <a:endParaRPr b="1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8246160" y="638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0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Государственный мониторинг пищевой продукции по результатам содержания антибиотиков тетрациклиновой группы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404176"/>
                </a:solidFill>
                <a:latin typeface="Arial"/>
              </a:rPr>
              <a:t>(уровень содержания антибиотиков в продуктах)</a:t>
            </a:r>
            <a:br>
              <a:rPr sz="1800"/>
            </a:b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692280" y="1371600"/>
          <a:ext cx="81770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371600"/>
                    <a:ext cx="81770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4"/>
          <p:cNvSpPr/>
          <p:nvPr/>
        </p:nvSpPr>
        <p:spPr>
          <a:xfrm>
            <a:off x="0" y="551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Times New Roman"/>
              </a:rPr>
              <a:t>Антибиотики тетрациклиновой группы обнаружены в 135 образцах, из них с  содержанием выше 10 мкг/кг – в 103 образцах, т.е.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76,3 %</a:t>
            </a:r>
            <a:endParaRPr b="1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8246160" y="638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осударственная программа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600" y="1071360"/>
            <a:ext cx="7961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осударственный ветеринарный лабораторный мониторинг безопасности продукции животного происхождения и кормов проводится в соответствии с Планом, ежегодно утверждаемым руководителем Федеральной службы по ветеринарному и фитосанитарному надзору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лан разрабатывается в соответствии с законо-дательной и нормативной базой Российской Федерации и международными требованиями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Times New Roman"/>
              </a:rPr>
              <a:t>Обнаружение антибиотиков тетрациклиновой группы в разных видах пищевой продукции</a:t>
            </a:r>
            <a:endParaRPr b="1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334800" y="762120"/>
          <a:ext cx="865044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762120"/>
                    <a:ext cx="865044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79280" y="4005360"/>
          <a:ext cx="8783640" cy="2560680"/>
        </p:xfrm>
        <a:graphic>
          <a:graphicData uri="http://schemas.openxmlformats.org/drawingml/2006/table">
            <a:tbl>
              <a:tblPr/>
              <a:tblGrid>
                <a:gridCol w="1054080"/>
                <a:gridCol w="674640"/>
                <a:gridCol w="682920"/>
                <a:gridCol w="612720"/>
                <a:gridCol w="685800"/>
                <a:gridCol w="609480"/>
                <a:gridCol w="647640"/>
                <a:gridCol w="952560"/>
                <a:gridCol w="533520"/>
                <a:gridCol w="745920"/>
                <a:gridCol w="505080"/>
                <a:gridCol w="503280"/>
                <a:gridCol w="576000"/>
              </a:tblGrid>
              <a:tr h="36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</a:t>
                      </a:r>
                      <a:endParaRPr b="1" lang="en-US" sz="13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 </a:t>
                      </a:r>
                      <a:endParaRPr b="1" lang="en-US" sz="13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. субпродукты</a:t>
                      </a:r>
                      <a:endParaRPr b="1" lang="en-US" sz="13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р</a:t>
                      </a:r>
                      <a:endParaRPr b="1" lang="en-US" sz="13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</a:t>
                      </a:r>
                      <a:endParaRPr b="1" lang="en-US" sz="13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</a:t>
                      </a:r>
                      <a:endParaRPr b="1" lang="en-US" sz="13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ейка</a:t>
                      </a:r>
                      <a:endParaRPr b="1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ина</a:t>
                      </a:r>
                      <a:endParaRPr b="1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ца</a:t>
                      </a:r>
                      <a:endParaRPr b="1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ейки</a:t>
                      </a:r>
                      <a:endParaRPr b="1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ая</a:t>
                      </a:r>
                      <a:endParaRPr b="1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С</a:t>
                      </a:r>
                      <a:endParaRPr b="1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ые</a:t>
                      </a:r>
                      <a:endParaRPr b="1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фрагма, сердце, почки</a:t>
                      </a:r>
                      <a:endParaRPr b="1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С</a:t>
                      </a:r>
                      <a:endParaRPr b="1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ные (сердце, желудки, печень)</a:t>
                      </a:r>
                      <a:endParaRPr b="1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-вано</a:t>
                      </a:r>
                      <a:endParaRPr b="1" lang="en-US" sz="1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1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нару-жено</a:t>
                      </a:r>
                      <a:endParaRPr b="1" lang="en-US" sz="1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,5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,1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1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,2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7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,3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,3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7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4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872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Rectangle 111"/>
          <p:cNvSpPr/>
          <p:nvPr/>
        </p:nvSpPr>
        <p:spPr>
          <a:xfrm>
            <a:off x="8337960" y="6510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Остаточное содержание антибиотиков тетрациклиновой группы в пищевой продукции разных стран-производителей</a:t>
            </a:r>
            <a:br>
              <a:rPr sz="2000"/>
            </a:b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1268280"/>
          <a:ext cx="9144000" cy="4519800"/>
        </p:xfrm>
        <a:graphic>
          <a:graphicData uri="http://schemas.openxmlformats.org/drawingml/2006/table">
            <a:tbl>
              <a:tblPr/>
              <a:tblGrid>
                <a:gridCol w="826920"/>
                <a:gridCol w="576360"/>
                <a:gridCol w="576360"/>
                <a:gridCol w="576360"/>
                <a:gridCol w="455400"/>
                <a:gridCol w="514440"/>
                <a:gridCol w="514440"/>
                <a:gridCol w="587160"/>
                <a:gridCol w="514440"/>
                <a:gridCol w="587520"/>
                <a:gridCol w="514080"/>
                <a:gridCol w="587520"/>
                <a:gridCol w="514440"/>
                <a:gridCol w="539640"/>
                <a:gridCol w="708120"/>
                <a:gridCol w="550800"/>
              </a:tblGrid>
              <a:tr h="11908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грия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ьгия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ния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а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я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а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1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проб</a:t>
                      </a:r>
                      <a:endParaRPr b="1" lang="en-US" sz="1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8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на-руже-но</a:t>
                      </a:r>
                      <a:endParaRPr b="1" lang="en-US" sz="1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,9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,8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,2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,7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,5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,7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,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,3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,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,5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,2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,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,7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,7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8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84"/>
          <p:cNvSpPr/>
          <p:nvPr/>
        </p:nvSpPr>
        <p:spPr>
          <a:xfrm flipV="1" rot="10800000">
            <a:off x="172800" y="5875920"/>
            <a:ext cx="897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таточное содержание антибиотиков тетрациклиновой группы обнаружено 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3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бразцах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,3 %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 числа исследованных)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0" name="Rectangle 111"/>
          <p:cNvSpPr/>
          <p:nvPr/>
        </p:nvSpPr>
        <p:spPr>
          <a:xfrm>
            <a:off x="8289000" y="6492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1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550728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ХЛОРАМФЕНИКОЛ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лорамфеникол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тибиотик широкого спектра действия, разрешенный для применения в ветеринарии в Российской Федерации.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СанПинН 2.3.4.1078-01, остаточное содержание хлорамфеникола в продукции животноводст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не допускаетс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мкг/к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редел определения ВЭЖХ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Хлорамфеникол включен в перечень «Веществ, продуктов, лекарственных препаратов и производственных процессов, вероятно канцерогенных для человека» (ГН 1.1.725-98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лорамфеникол и его метаболиты обладают генотоксическим, эмбриотоксическим и канцерогенным действием, могут вызывать тяжелые формы апластической анемии у людей, поэтому для ни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могут быть установлены ежедневная безопасная потребляемая доз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I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МДУ (Приложени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ановления Совета ЕС № 2377/90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лорамфеникол запрещен для лечения продуктивных животных в странах ЕС, США, Канаде, Австралии, Японии и др. странах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любое остаточное содержание его в продукции животноводства не допускается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итет экспертов Кодекса Алиментариус в 1994 г пришел к заключению, что для хлорамфеникол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может быть установлена ежедневная  безопасная потребляемая доза и МДУ в связи с информацией о его канцерогенном и генотоксическом действии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законодательству ЕС, лаборатории должны использовать методики, позволяющие обнаруживать остаточное содержание хлорамфеникола в продукции животноводства на уровне не выш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0,3 мкг/кг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ел обнаружения методики, используемой ФГУ «ВГНКИ» (ВЭЖХ-МС/МС)  составляет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0,2 мкг/кг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8"/>
          <a:stretch/>
        </p:blipFill>
        <p:spPr>
          <a:xfrm>
            <a:off x="7596360" y="0"/>
            <a:ext cx="1547640" cy="879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5"/>
          <p:cNvSpPr/>
          <p:nvPr/>
        </p:nvSpPr>
        <p:spPr>
          <a:xfrm>
            <a:off x="8289000" y="6473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176"/>
                </a:solidFill>
                <a:latin typeface="Times New Roman"/>
              </a:rPr>
              <a:t>Содержание хлорамфеникола в продукции животноводства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6699"/>
                </a:solidFill>
                <a:latin typeface="Times New Roman"/>
              </a:rPr>
              <a:t>Остаточное содержание хлорамфеникола обнаружено в 10 образцах, в т.ч.: продукции свиноводства (7), птицеводства (2), молоко (1),  </a:t>
            </a:r>
            <a:r>
              <a:rPr b="1" lang="ru-RU" sz="1800" spc="-1" strike="noStrike">
                <a:solidFill>
                  <a:srgbClr val="666699"/>
                </a:solidFill>
                <a:latin typeface="Times New Roman"/>
              </a:rPr>
              <a:t>70% - продукция предприятий РФ</a:t>
            </a:r>
            <a:r>
              <a:rPr b="0" lang="ru-RU" sz="1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0920" y="1844640"/>
          <a:ext cx="8569080" cy="4791240"/>
        </p:xfrm>
        <a:graphic>
          <a:graphicData uri="http://schemas.openxmlformats.org/drawingml/2006/table">
            <a:tbl>
              <a:tblPr/>
              <a:tblGrid>
                <a:gridCol w="2616120"/>
                <a:gridCol w="4605480"/>
                <a:gridCol w="13474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ция</a:t>
                      </a:r>
                      <a:endParaRPr b="1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1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1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орок куриный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ина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ина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арусь, г. Жлобин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ина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Ф, Орловская обл.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ая печень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Ф, Белгородская обл.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ина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Ф, Брянская обл.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ина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Ф, Тамбовская обл.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ина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Ф, Воронежская обл.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шки кур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Ф, Суворовская птицефабрика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Ф, Саратовская обл.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58"/>
          <p:cNvSpPr/>
          <p:nvPr/>
        </p:nvSpPr>
        <p:spPr>
          <a:xfrm>
            <a:off x="8346240" y="6521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176"/>
                </a:solidFill>
                <a:latin typeface="Arial"/>
              </a:rPr>
              <a:t>Содержание антибиотиков в продукции животного происхождения в количествах, превышающих нормативы ЕС (</a:t>
            </a:r>
            <a:r>
              <a:rPr b="1" i="1" lang="ru-RU" sz="2200" spc="-1" strike="noStrike">
                <a:solidFill>
                  <a:srgbClr val="404176"/>
                </a:solidFill>
                <a:latin typeface="Arial"/>
              </a:rPr>
              <a:t>Результаты мониторинга в 2008 году)</a:t>
            </a:r>
            <a:endParaRPr b="0" lang="en-US" sz="22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85800" y="1628640"/>
          <a:ext cx="8207280" cy="4638960"/>
        </p:xfrm>
        <a:graphic>
          <a:graphicData uri="http://schemas.openxmlformats.org/drawingml/2006/table">
            <a:tbl>
              <a:tblPr/>
              <a:tblGrid>
                <a:gridCol w="1290600"/>
                <a:gridCol w="1300320"/>
                <a:gridCol w="1511280"/>
                <a:gridCol w="1368360"/>
                <a:gridCol w="1368360"/>
                <a:gridCol w="1368360"/>
              </a:tblGrid>
              <a:tr h="49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одержание, мкг/кг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Закон-во ЕС, не более, мкг/кг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СанПинН РФ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ания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оксициклин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556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е допус-кается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Фарш индейки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Окситетра-циклин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Свинина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Хлорам-феникол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9,8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0,3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«</a:t>
                      </a:r>
                      <a:endParaRPr b="1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44"/>
          <p:cNvSpPr/>
          <p:nvPr/>
        </p:nvSpPr>
        <p:spPr>
          <a:xfrm>
            <a:off x="8311680" y="6467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ЦЕЛЕВАЯ ПРОГРАММА МОНИТОРИНГА</a:t>
            </a:r>
            <a:br>
              <a:rPr sz="2400"/>
            </a:b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Идентификация рисков, обусловленных наличием остаточных количеств </a:t>
            </a:r>
            <a:r>
              <a:rPr b="1" lang="ru-RU" sz="2200" spc="-1" strike="noStrike">
                <a:solidFill>
                  <a:srgbClr val="404176"/>
                </a:solidFill>
                <a:latin typeface="Times New Roman"/>
              </a:rPr>
              <a:t>КОКЦИДИОСТАТИКОВ</a:t>
            </a: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 в продукции животноводства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89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животноводстве применяется большое количество лекарственных средств для борьбы с кокцидиозом, поэтому высока вероятность обнаружения остаточных количеств кокцидиостатиков в продукции животного происхождени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ывая широкий спектр применяемых кокцидиостатиков,  для их контроля рационально использовать мультиметоды, позволяющие проводить одновременное обнаружение в пробе нескольких ксенобиотиков, что существенно упрощает задачу проведения широкомасштабного мониторинга и увеличивает  его эффективность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 задача была успешно решена нами благодаря высокой селективности метода хроматомасс-спектрометрии, позволившего проводить обнаружение в течение одного анализа 22 кокцидиостатиков в кормах и продукции животноводства. Эффективность разработанной методики подтверждена успешными результатами участия ФГУ «ВГНКИ» в международных сравнительных испытаниях, организованных референтной лабораторией ЕС в этой области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827388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Times New Roman"/>
              </a:rPr>
              <a:t>ОБНАРУЖЕНИЕ ОСТАТОЧНЫХ КОЛИЧЕСТВ КОКЦИДИОСТАТИКОВ</a:t>
            </a:r>
            <a:br>
              <a:rPr sz="1800"/>
            </a:br>
            <a:r>
              <a:rPr b="1" lang="ru-RU" sz="1800" spc="-1" strike="noStrike">
                <a:solidFill>
                  <a:srgbClr val="404176"/>
                </a:solidFill>
                <a:latin typeface="Times New Roman"/>
              </a:rPr>
              <a:t>В ПИЩЕВОЙ ПРОДУКЦИИ</a:t>
            </a:r>
            <a:r>
              <a:rPr b="1" lang="ru-RU" sz="18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40417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-36360" y="1268280"/>
          <a:ext cx="9180360" cy="4657680"/>
        </p:xfrm>
        <a:graphic>
          <a:graphicData uri="http://schemas.openxmlformats.org/drawingml/2006/table">
            <a:tbl>
              <a:tblPr/>
              <a:tblGrid>
                <a:gridCol w="1944360"/>
                <a:gridCol w="1943280"/>
                <a:gridCol w="1800360"/>
                <a:gridCol w="34923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-производитель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разцов (% от обнаруженных)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цидиостатики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(35,8)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 птицы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итрокарбанилид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лопидол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(30,5)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 куриные,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 птицы, печень свиная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пролиум, ласалоцид, маду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цин,  семдурамицин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топабат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(26,3)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 куриное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итрокарбанилид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лопидо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монензин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рази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алиномицин 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6,3)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продукты куриные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итрокарбанилид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(1,1)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ясо свинины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линомицин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 (100)</a:t>
                      </a:r>
                      <a:endParaRPr b="1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5949720"/>
            <a:ext cx="8281800" cy="21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окцидиостатики, незарегистрированные в Российской Федерации  выделены красным шрифтом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8" name="Rectangle 56"/>
          <p:cNvSpPr/>
          <p:nvPr/>
        </p:nvSpPr>
        <p:spPr>
          <a:xfrm>
            <a:off x="8302320" y="6477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imes New Roman"/>
              </a:rPr>
              <a:t>Обнаружение остаточного содержания незарегистрированных в РФ лекарственных средств в продукции животноводства*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9640" y="1341360"/>
          <a:ext cx="8134560" cy="4305240"/>
        </p:xfrm>
        <a:graphic>
          <a:graphicData uri="http://schemas.openxmlformats.org/drawingml/2006/table">
            <a:tbl>
              <a:tblPr/>
              <a:tblGrid>
                <a:gridCol w="2238480"/>
                <a:gridCol w="3456000"/>
                <a:gridCol w="2440080"/>
              </a:tblGrid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 происхождения</a:t>
                      </a:r>
                      <a:endParaRPr b="1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образцов, </a:t>
                      </a:r>
                      <a:endParaRPr b="1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от  обнаруженных </a:t>
                      </a:r>
                      <a:endParaRPr b="1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карственное средство</a:t>
                      </a:r>
                      <a:endParaRPr b="1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 (23,5%)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опидол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(12,0%)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опидол, наразин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(3,4%)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пабат 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5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9"/>
          <p:cNvSpPr/>
          <p:nvPr/>
        </p:nvSpPr>
        <p:spPr>
          <a:xfrm>
            <a:off x="0" y="5661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* «При изготовлении  продовольственного сырья допускается использование…лекарственных средств,…прошедших государственную регистрацию в порядке, установленном законодательством РФ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17, п.2 ФЗ № 29 «О качестве и безопасности пищевых продуктов»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8302320" y="6477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176"/>
                </a:solidFill>
                <a:latin typeface="Times New Roman"/>
              </a:rPr>
              <a:t>Содержание ксенобиотиков в продукции животного происхождения различных стран-производителей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24000" y="1413000"/>
          <a:ext cx="8496000" cy="455904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124000"/>
                <a:gridCol w="2124000"/>
              </a:tblGrid>
              <a:tr h="52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ило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цов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наружено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обнаружения</a:t>
                      </a:r>
                      <a:endParaRPr b="1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арусь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4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1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8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ьгия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раина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7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грия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4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ания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1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6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ия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6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6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ва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</a:t>
                      </a:r>
                      <a:endParaRPr b="1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Rectangle 100"/>
          <p:cNvSpPr/>
          <p:nvPr/>
        </p:nvSpPr>
        <p:spPr>
          <a:xfrm>
            <a:off x="8316720" y="6478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255600" y="365040"/>
            <a:ext cx="8875800" cy="123840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4" descr=""/>
          <p:cNvPicPr/>
          <p:nvPr/>
        </p:nvPicPr>
        <p:blipFill>
          <a:blip r:embed="rId2"/>
          <a:stretch/>
        </p:blipFill>
        <p:spPr>
          <a:xfrm>
            <a:off x="285840" y="1143000"/>
            <a:ext cx="8572320" cy="54957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835956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осударственная программа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2600" y="1071360"/>
            <a:ext cx="803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План государственного ветеринарного лабора-торного мониторинга …» максимально гармони-зирован с международными требованиями (Директивами, Решениями Европейского Совета по контролю безопасности продукции, в том числе  Директивы 96/23/ЕС по исследованию остатков запрещенных и вредных веществ в организме животных и продуктах животного происхождения)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500040" y="189000"/>
            <a:ext cx="8315280" cy="1279440"/>
          </a:xfrm>
          <a:prstGeom prst="rect">
            <a:avLst/>
          </a:prstGeom>
          <a:ln w="0">
            <a:noFill/>
          </a:ln>
        </p:spPr>
      </p:pic>
      <p:pic>
        <p:nvPicPr>
          <p:cNvPr id="260" name="Object 3" descr=""/>
          <p:cNvPicPr/>
          <p:nvPr/>
        </p:nvPicPr>
        <p:blipFill>
          <a:blip r:embed="rId2"/>
          <a:stretch/>
        </p:blipFill>
        <p:spPr>
          <a:xfrm>
            <a:off x="304920" y="1214280"/>
            <a:ext cx="8481960" cy="52149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8378640" y="644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682560" y="2073240"/>
            <a:ext cx="7785000" cy="22068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8273880" y="6419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528040" cy="2236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500040" y="2143080"/>
            <a:ext cx="79725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176"/>
                </a:solidFill>
                <a:latin typeface="Arial"/>
              </a:rPr>
              <a:t>наивысший  уровень риска – белки животного происхождения  (мясная и мясокостная мука, рыбная мука)</a:t>
            </a:r>
            <a:r>
              <a:rPr b="0" lang="en-US" sz="3000" spc="-1" strike="noStrike">
                <a:solidFill>
                  <a:srgbClr val="404176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176"/>
                </a:solidFill>
                <a:latin typeface="Arial"/>
              </a:rPr>
              <a:t>второй уровень риска - белки растительного происхождения (соевый шрот, кукурузный шрот, кукурузный глютен и т.п.)</a:t>
            </a:r>
            <a:r>
              <a:rPr b="0" lang="en-US" sz="3000" spc="-1" strike="noStrike">
                <a:solidFill>
                  <a:srgbClr val="404176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176"/>
                </a:solidFill>
                <a:latin typeface="Arial"/>
              </a:rPr>
              <a:t>третий уровень риска – другие белки растительного происхождения ( любое цельное зерно).</a:t>
            </a:r>
            <a:endParaRPr b="0" lang="en-US" sz="3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73880" y="6400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685800" y="198072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. Agona </a:t>
            </a: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была завезена с рыбной мукой из Перу в США в 1968 году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К 2002 году в США  зарегистрировано около 1 млн. случаев заболевания людей сальмонеллезом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(Crump et al. 2002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8273880" y="6419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775040" y="3122640"/>
            <a:ext cx="426096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176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404176"/>
                </a:solidFill>
                <a:latin typeface="Arial"/>
              </a:rPr>
              <a:t>В Швеции до 30%  импортированных партий шрота инфицированы сальмонеллами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176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404176"/>
                </a:solidFill>
                <a:latin typeface="Arial"/>
              </a:rPr>
              <a:t>Из шрота выделены сальмонеллы 77 различных сероваров.      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404176"/>
                </a:solidFill>
                <a:latin typeface="Arial"/>
              </a:rPr>
              <a:t>(M.Wierup</a:t>
            </a:r>
            <a:r>
              <a:rPr b="0" lang="ru-RU" sz="2000" spc="-1" strike="noStrike">
                <a:solidFill>
                  <a:srgbClr val="404176"/>
                </a:solidFill>
                <a:latin typeface="Arial"/>
              </a:rPr>
              <a:t> ,2008</a:t>
            </a:r>
            <a:r>
              <a:rPr b="0" lang="en-US" sz="2000" spc="-1" strike="noStrike">
                <a:solidFill>
                  <a:srgbClr val="40417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271" name="Группа 8"/>
          <p:cNvGrpSpPr/>
          <p:nvPr/>
        </p:nvGrpSpPr>
        <p:grpSpPr>
          <a:xfrm>
            <a:off x="0" y="2781360"/>
            <a:ext cx="5076720" cy="2671560"/>
            <a:chOff x="0" y="2781360"/>
            <a:chExt cx="5076720" cy="2671560"/>
          </a:xfrm>
        </p:grpSpPr>
        <p:pic>
          <p:nvPicPr>
            <p:cNvPr id="272" name="Picture 5" descr="для Панина"/>
            <p:cNvPicPr/>
            <p:nvPr/>
          </p:nvPicPr>
          <p:blipFill>
            <a:blip r:embed="rId1"/>
            <a:srcRect l="8375" t="33260" r="9106" b="4086"/>
            <a:stretch/>
          </p:blipFill>
          <p:spPr>
            <a:xfrm>
              <a:off x="0" y="2781360"/>
              <a:ext cx="5076720" cy="26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Прямоугольник 5"/>
            <p:cNvSpPr/>
            <p:nvPr/>
          </p:nvSpPr>
          <p:spPr>
            <a:xfrm>
              <a:off x="3625920" y="2925720"/>
              <a:ext cx="1450800" cy="64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Прямоугольник 6"/>
            <p:cNvSpPr/>
            <p:nvPr/>
          </p:nvSpPr>
          <p:spPr>
            <a:xfrm>
              <a:off x="3603600" y="4271760"/>
              <a:ext cx="1385640" cy="1160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75" name="Rectangle 7"/>
          <p:cNvSpPr/>
          <p:nvPr/>
        </p:nvSpPr>
        <p:spPr>
          <a:xfrm>
            <a:off x="8311680" y="6419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1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042920" y="549360"/>
            <a:ext cx="741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ahoma"/>
              </a:rPr>
              <a:t>СОЕВЫЙ ШРОТ, КОНТАМИНИРОВАННЫЙ САЛЬМОНЕЛЛАМИ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Tahoma"/>
              </a:rPr>
              <a:t>(1994 – 2007гг.)</a:t>
            </a:r>
            <a:endParaRPr b="1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осударственная программа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320" y="1142640"/>
            <a:ext cx="810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План мониторинга на 2008 г. базируется в том числе и на данных, полученных в предыдущие годы, учитывает результаты анализа рисков и включает в себя дополнительные целевые подпрограммы по контролю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продукции животного происхождения на наличие остатков лекарственных  средств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кормов на присутствие ДНК жвачных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осударственная программа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214280"/>
            <a:ext cx="81039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 соответствии с действующим Планом мониторинга лаборатории и  референтные центры  Россельхознадзора  проводили исследования содержания остаточных количеств запрещённых и вредных веществ в организме продуктивных животных, продукции, получаемой от них,а также кормах и кормовых добавках.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осударственная программа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142640"/>
            <a:ext cx="817704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Лабораториями контролировалось содержание  остаточных количеств пестицидов, агрохимикатов, радионуклидов,  нитратов и нитритов,  токсичных элементов (ртуть, свинец, кадмий), хлорорганических и фосфорорганических пестицидов, карбаматов, ртутьорганических соединений, лекарственных препаратов,  микотоксинов и других веществ утвержденными в официальном порядке  методами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осударственная программа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680" y="1213920"/>
            <a:ext cx="81770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огласно принятой классификации, подлежащие контролю контаминанты делятся на следующие группы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Группа А.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щества, имеющие анаболический эффект, и запрещённые вещества: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1. Стильбены и их производные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2.Тиреостатик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3. Естественные и синтетические стероиды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4. Лактоны резорциловой кислоты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5. Бета-агонист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6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Хлорамфеникол, производные нитрофуранов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осударственная программа мониторинга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71680" y="1142640"/>
            <a:ext cx="8177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Группа В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. Ветеринарные лекарственные средства и другие контаминанты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33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1. Антибактериальные вещества, в том числе, сульфаниламидные препараты и хинолон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33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2. Другие ветеринарные лекарственные средств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2а.Антгельминтик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Кокцидиостатики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Седативные средства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Нестероидные противовоспалительные средств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2с. Карбаматы и пиретроид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Arial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8:54:09Z</dcterms:created>
  <dc:creator>user</dc:creator>
  <dc:description/>
  <dc:language>en-US</dc:language>
  <cp:lastModifiedBy>m.shernagina</cp:lastModifiedBy>
  <dcterms:modified xsi:type="dcterms:W3CDTF">2009-02-02T07:42:16Z</dcterms:modified>
  <cp:revision>758</cp:revision>
  <dc:subject/>
  <dc:title>ОТЧЕТЫ</dc:title>
</cp:coreProperties>
</file>